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22E-2F10-489B-83C6-BB71F8D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483-59C6-4ECA-9CA2-080AF6B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6B6-EA73-4A70-9AFC-6E4CF4B4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A0A-05A7-4A29-ABE0-FE6F6B90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C22-989D-47DB-B1E8-562D1624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26E-0CD7-454D-8931-1B1F74F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DC0-55DB-42C9-AD41-83E39EF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2C1-ACB9-4F4F-B7B1-CA62C96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D09-09DA-4348-A6C7-F02DED3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5A8-BEA8-467E-8BE2-2C88E11B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0B4-5C55-4FCD-BA80-4FEDA89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E49-0F6D-41F7-B0CD-DEDFFD9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FDF-7C1E-4201-BB05-7BD0B8B190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typ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ypical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petit déjeu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527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116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16970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69960" y="4168800"/>
            <a:ext cx="181296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61120" y="3938760"/>
            <a:ext cx="261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brosse les 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134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quitte la maison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3961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le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ais à l’école/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ends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176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95408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087640" cy="195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953080" cy="1935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44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rrive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477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trav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105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éje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248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év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42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ntre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09840" y="1600200"/>
            <a:ext cx="252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24080" y="1600200"/>
            <a:ext cx="23050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61080" y="1790640"/>
            <a:ext cx="18129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65280" y="4130640"/>
            <a:ext cx="182232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58080" y="3938760"/>
            <a:ext cx="1218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goû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goû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08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fais m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81240" y="1600200"/>
            <a:ext cx="478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dîn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mon dî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46400" y="1743120"/>
            <a:ext cx="4651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garde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5480" y="2416320"/>
            <a:ext cx="4613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89040" y="2062080"/>
            <a:ext cx="17748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13400" y="1600200"/>
            <a:ext cx="230832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76200" y="3938760"/>
            <a:ext cx="24004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23000" y="393876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dés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4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8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71760" y="1649520"/>
            <a:ext cx="59990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79520" y="1600200"/>
            <a:ext cx="45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84720" cy="193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808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59480" y="3938760"/>
            <a:ext cx="22143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1557360"/>
            <a:ext cx="2054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réve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un b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if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petit déjeu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brosse les 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ais à l’éc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rrive au collè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 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éje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ntre à la ma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goû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fais mes devo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î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garde la té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és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 rév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m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v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ake up (sing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ke up (in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ke up (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ake up (pl. or 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ke up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ke up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une douch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e do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0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31053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6520" y="1600200"/>
            <a:ext cx="2962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84360" y="4141800"/>
            <a:ext cx="1782720" cy="177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13280" y="4119480"/>
            <a:ext cx="17082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un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98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28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i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4753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6:57:48Z</dcterms:created>
  <dc:creator> Cecile Gennevieve</dc:creator>
  <dc:description/>
  <dc:language>en-US</dc:language>
  <cp:lastModifiedBy>Ministry of Education</cp:lastModifiedBy>
  <dcterms:modified xsi:type="dcterms:W3CDTF">2009-06-22T23:29:04Z</dcterms:modified>
  <cp:revision>7</cp:revision>
  <dc:subject/>
  <dc:title>Une journée typique</dc:title>
</cp:coreProperties>
</file>